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5C224-FCAB-4577-97B5-EDE04A2B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BFFD-FDE5-4F10-8843-9A573771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2D431-AD35-42D1-8A8D-1D2C540D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7970-0BEB-423E-A6C4-18E08866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656F-130B-4C3B-B713-89DB46AA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766E-4CCD-4323-B9FD-7E38E94D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ED0E-5CA4-485F-8B76-99B3A60E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A514-AAA2-4122-A5D1-373DBB08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84FC-D11D-4AAE-B012-F076EFDD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1281-980D-4479-8734-80A1C649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7C8D-243B-451A-AE4B-F0F7B517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8329-F3BD-458D-9291-8CBD5F7D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3445-054C-4C30-B099-B4F7D64C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F3E6-47AA-4495-93B5-0E60B9C6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A485-2212-4788-AF84-8F09AAEA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E479-6F41-41CE-81CA-D5CFA797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BB93-69BB-4B25-A156-677BB153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3D141-324F-44EF-82A9-3916F85A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4ED62-473A-43F5-B1C4-50C3CB09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D0D46-3DAC-48C9-B319-CA795EC6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67B8-BCF8-4847-9F68-EB88DC08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7190-BE46-4CC9-8752-4B9B575D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375B-384D-46E2-ADF5-D9C406BD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D86B-4921-4D81-AD33-C9C2EBCF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5EB6-FBD4-4058-8E59-E5CAFDA962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ic Just – dictyBase – Northwestern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13C8-0461-49CD-9430-8F56FF366F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Porting CHADO and GMOD Tools to Oracle and Integration with dictyBase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ic J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cty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dictybase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Genetic Medic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thwester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600200" y="3505320"/>
            <a:ext cx="61722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table’ database abstraction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00200" y="2133720"/>
            <a:ext cx="2590920" cy="12189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ous middleware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ation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2819520"/>
            <a:ext cx="34290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Object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43400" y="2133720"/>
            <a:ext cx="34290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Presentation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grating into dictyBase 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505320" y="4648320"/>
            <a:ext cx="1828800" cy="129528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4038480" y="4070160"/>
            <a:ext cx="0" cy="53316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11760" y="4083120"/>
            <a:ext cx="0" cy="53316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5DBF-9A99-48C2-86F0-FDBB521C58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600200" y="3505320"/>
            <a:ext cx="30481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table’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124080" y="2819520"/>
            <a:ext cx="4648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Object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24080" y="2133720"/>
            <a:ext cx="4648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Presentation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800600" y="3505320"/>
            <a:ext cx="29718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::DBI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grating into dictyBase 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286000" y="4724280"/>
            <a:ext cx="1828800" cy="129564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2819520" y="41464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592440" y="41590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181480" y="4724280"/>
            <a:ext cx="1828800" cy="129564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5715000" y="41464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488280" y="41590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00200" y="2144880"/>
            <a:ext cx="1371600" cy="12189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riou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ddlew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6435-6C40-4D07-A947-EED1D8EAE3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ctyBase Objec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rieve, insert, update, dele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ace ignorant of sch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resentation in data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ed with lazy evaluation most ac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 – 80% unit test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7AA39-5C40-4165-94C2-AC87F78A71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e BioPer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Bio::Seq to represent sequ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Bio::SeqFeatures to represent transcript and alignment 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ness the power of BioPerl for sequence tasks, file 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 BioPerl only used for sequence and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BD865-B0F0-465F-8EE3-385D65264C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ass Diagra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05280" y="1752480"/>
            <a:ext cx="121932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76280" y="3276720"/>
            <a:ext cx="1219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47680" y="4572000"/>
            <a:ext cx="190512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1162080" y="3885840"/>
            <a:ext cx="0" cy="68580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90880" y="3276720"/>
            <a:ext cx="1219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05080" y="4572000"/>
            <a:ext cx="260496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600360" y="3886200"/>
            <a:ext cx="0" cy="65736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971960" y="3276720"/>
            <a:ext cx="2057400" cy="91440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048280" y="4572000"/>
            <a:ext cx="198108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039000" y="4266720"/>
            <a:ext cx="0" cy="30492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182000" y="3276720"/>
            <a:ext cx="175248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86560" y="4572000"/>
            <a:ext cx="121932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8096400" y="3885840"/>
            <a:ext cx="0" cy="68580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059720" y="1828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31800" y="33526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gn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145320" y="3352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R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508000" y="33526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261200" y="33526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mos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967280" y="3657600"/>
            <a:ext cx="207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tOverlappingFeatures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tOverlappingAlignments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400640" y="229536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162080" y="2895480"/>
            <a:ext cx="693432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14760" y="2438280"/>
            <a:ext cx="7920" cy="4460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16208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60036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3900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9640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376720" y="4724280"/>
            <a:ext cx="25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Feature::Gene::Transcri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044680" y="4724280"/>
            <a:ext cx="19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Feature::Gener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44080" y="4724280"/>
            <a:ext cx="19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Feature::Gener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714800" y="472428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24" name=""/>
          <p:cNvCxnSpPr>
            <a:stCxn id="596" idx="2"/>
            <a:endCxn id="605" idx="2"/>
          </p:cNvCxnSpPr>
          <p:nvPr/>
        </p:nvCxnSpPr>
        <p:spPr>
          <a:xfrm flipH="1" rot="16200000">
            <a:off x="4647600" y="1673640"/>
            <a:ext cx="2160" cy="6896880"/>
          </a:xfrm>
          <a:prstGeom prst="bentConnector3">
            <a:avLst>
              <a:gd name="adj1" fmla="val 61400000"/>
            </a:avLst>
          </a:prstGeom>
          <a:ln w="31680">
            <a:solidFill>
              <a:srgbClr val="ffffff"/>
            </a:solidFill>
            <a:miter/>
          </a:ln>
        </p:spPr>
      </p:cxnSp>
      <p:cxnSp>
        <p:nvCxnSpPr>
          <p:cNvPr id="625" name=""/>
          <p:cNvCxnSpPr>
            <a:stCxn id="599" idx="2"/>
            <a:endCxn id="605" idx="2"/>
          </p:cNvCxnSpPr>
          <p:nvPr/>
        </p:nvCxnSpPr>
        <p:spPr>
          <a:xfrm flipH="1" rot="16200000">
            <a:off x="5850720" y="2877840"/>
            <a:ext cx="2160" cy="4488840"/>
          </a:xfrm>
          <a:prstGeom prst="bentConnector3">
            <a:avLst>
              <a:gd name="adj1" fmla="val 42900000"/>
            </a:avLst>
          </a:prstGeom>
          <a:ln w="31680">
            <a:solidFill>
              <a:srgbClr val="ffffff"/>
            </a:solidFill>
            <a:miter/>
          </a:ln>
        </p:spPr>
      </p:cxnSp>
      <p:cxnSp>
        <p:nvCxnSpPr>
          <p:cNvPr id="626" name=""/>
          <p:cNvCxnSpPr/>
          <p:nvPr/>
        </p:nvCxnSpPr>
        <p:spPr>
          <a:xfrm flipH="1" rot="16200000">
            <a:off x="7065720" y="4077360"/>
            <a:ext cx="2160" cy="2057760"/>
          </a:xfrm>
          <a:prstGeom prst="bentConnector3">
            <a:avLst>
              <a:gd name="adj1" fmla="val 28400000"/>
            </a:avLst>
          </a:prstGeom>
          <a:ln w="31680">
            <a:solidFill>
              <a:srgbClr val="ffffff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E7A1-7A80-4930-B665-67EEF12482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Object use case: Add an Exon, dbxref, and Descript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52280" y="1600200"/>
            <a:ext cx="8839440" cy="457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#!pe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use dicty::Fe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my $transcript = new dicty::Feature( -feature_no =&gt; 218420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transcript-&gt;description( ‘Gene model derived from AU12345'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transcript-&gt;add_external_id( -source =&gt; ‘GenBank Accession Number'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                             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-id     =&gt; 'AU12345'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bioperl = $transcript-&gt;bioper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[$bioperl-&gt;exons()]-&gt;[2]-&gt;start( 281050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my $exon = Bio::SeqFeature::Gene::Exon-&gt;new(    -start  =&gt; 280921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-end    =&gt; 280959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-strand =&gt; -1  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exon-&gt;is_coding(1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bioperl-&gt;add_exon($exon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transcript-&gt;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ADBC-AF6F-472D-B724-31D371B6F3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5784840" y="1941480"/>
            <a:ext cx="914400" cy="45720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03560" y="1865160"/>
            <a:ext cx="914400" cy="45720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ing Apoll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laptop"/>
          <p:cNvSpPr/>
          <p:nvPr/>
        </p:nvSpPr>
        <p:spPr>
          <a:xfrm>
            <a:off x="7308720" y="2170080"/>
            <a:ext cx="1352520" cy="11430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461960" y="2169720"/>
            <a:ext cx="51300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1517760" y="3008160"/>
            <a:ext cx="579096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02240" y="4227480"/>
            <a:ext cx="57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est segment through SOAP message over HT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1517400" y="2279520"/>
            <a:ext cx="507960" cy="1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51520" y="2246400"/>
            <a:ext cx="6098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 flipV="1">
            <a:off x="6775200" y="2322000"/>
            <a:ext cx="6094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902240" y="4608360"/>
            <a:ext cx="40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layer generates GenBank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04400" y="5370480"/>
            <a:ext cx="63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y, in Apollo send changed gene models back via SO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11960" y="5791320"/>
            <a:ext cx="60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or changes gene models and updates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0720" y="4075200"/>
            <a:ext cx="762120" cy="121896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22120" y="217008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07920" y="323676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55640" y="32364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Cloud"/>
          <p:cNvSpPr/>
          <p:nvPr/>
        </p:nvSpPr>
        <p:spPr>
          <a:xfrm>
            <a:off x="3498840" y="1560600"/>
            <a:ext cx="1676520" cy="2448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913040" y="5000760"/>
            <a:ext cx="42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d GenBank File via SOAP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7613640" y="2324160"/>
            <a:ext cx="789120" cy="4366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 rot="1219800">
            <a:off x="3809520" y="1752480"/>
            <a:ext cx="1295640" cy="66852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2203560" y="186516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84840" y="194148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AD23-33B3-4FD4-82CF-589F115D18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ew Curation To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and Feature curation had to be rewrit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centric’ c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more evidence qual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classes that manipulate Object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2634-9494-48C3-8A59-93C93EBA55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ere Are We Go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e the flexibility – New Feature Types, feature relations, and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 back to GM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ually port different areas into CH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feedback and testing ground for database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6136-83B8-44FE-ACE7-72974E5ECD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cknowleg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895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cty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x Chisholm, Ph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arren Kibbe, Ph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m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hel Merch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ura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tra F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cale Gaudet, Ph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ren Pilc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oinformatics Core at Northweste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410080" y="1447920"/>
            <a:ext cx="3353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her 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H (NIGMS and NHGR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M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Brow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Per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B4C5-1519-4ED5-9FED-179E2CB2BD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yBase based on SG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flexibility in feature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to use CHADO for feature data, but ‘dicty’ SGD schema for the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y’ SGD (Oracle) needs to link to CH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5509-4F35-4018-96B6-7353FF841E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chema port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airy did most of this, 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to tweak Oracle Produ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name limited to 30 characters, systematically truncate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/primary keys on CLOBs (text) not allowed, changed to varchar2(4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’ reserved name in Oracle, changed name to ‘SYNONYM _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B7034-9FCE-4718-A2FB-4654C93823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ass::DB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::DBI provides nice ‘table level’ abs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U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follow references WITHOUT WRITING SQ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llent tool for por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ships with Class::DBI configured for CH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to fix/customize Oracl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EBD8-0F38-4237-B82A-573810F2EC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utoDB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kage which loads Class::DBI classes for each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class name Chado::Synonym but call set_up_table( ‘synonym_’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‘residues’ a ‘lazy’ column of Chado::Fe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ther Significant porting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F82EB-B126-485B-8721-99E28F54F1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ata Migr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14600" y="274320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267080" y="2286000"/>
            <a:ext cx="838440" cy="129528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FF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2666880"/>
            <a:ext cx="1295280" cy="6098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86600" y="2362320"/>
            <a:ext cx="990720" cy="121896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19320" y="2438280"/>
            <a:ext cx="990360" cy="121932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09800" y="4952880"/>
            <a:ext cx="57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ort chromosome sequences and locations in GFF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752480" y="3505320"/>
            <a:ext cx="5791320" cy="914400"/>
            <a:chOff x="1752480" y="3505320"/>
            <a:chExt cx="5791320" cy="914400"/>
          </a:xfrm>
        </p:grpSpPr>
        <p:sp>
          <p:nvSpPr>
            <p:cNvPr id="536" name=""/>
            <p:cNvSpPr/>
            <p:nvPr/>
          </p:nvSpPr>
          <p:spPr>
            <a:xfrm>
              <a:off x="2209680" y="3505320"/>
              <a:ext cx="4876920" cy="761760"/>
            </a:xfrm>
            <a:custGeom>
              <a:avLst/>
              <a:gdLst/>
              <a:ahLst/>
              <a:rect l="l" t="t" r="r" b="b"/>
              <a:pathLst>
                <a:path w="3504" h="440">
                  <a:moveTo>
                    <a:pt x="0" y="48"/>
                  </a:moveTo>
                  <a:cubicBezTo>
                    <a:pt x="644" y="244"/>
                    <a:pt x="1288" y="440"/>
                    <a:pt x="1872" y="432"/>
                  </a:cubicBezTo>
                  <a:cubicBezTo>
                    <a:pt x="2456" y="424"/>
                    <a:pt x="2980" y="212"/>
                    <a:pt x="3504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81080" y="3581280"/>
              <a:ext cx="5334120" cy="762120"/>
            </a:xfrm>
            <a:custGeom>
              <a:avLst/>
              <a:gdLst/>
              <a:ahLst/>
              <a:rect l="l" t="t" r="r" b="b"/>
              <a:pathLst>
                <a:path w="3504" h="440">
                  <a:moveTo>
                    <a:pt x="0" y="48"/>
                  </a:moveTo>
                  <a:cubicBezTo>
                    <a:pt x="644" y="244"/>
                    <a:pt x="1288" y="440"/>
                    <a:pt x="1872" y="432"/>
                  </a:cubicBezTo>
                  <a:cubicBezTo>
                    <a:pt x="2456" y="424"/>
                    <a:pt x="2980" y="212"/>
                    <a:pt x="3504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52480" y="3657600"/>
              <a:ext cx="5791320" cy="762120"/>
            </a:xfrm>
            <a:custGeom>
              <a:avLst/>
              <a:gdLst/>
              <a:ahLst/>
              <a:rect l="l" t="t" r="r" b="b"/>
              <a:pathLst>
                <a:path w="3504" h="440">
                  <a:moveTo>
                    <a:pt x="0" y="48"/>
                  </a:moveTo>
                  <a:cubicBezTo>
                    <a:pt x="644" y="244"/>
                    <a:pt x="1288" y="440"/>
                    <a:pt x="1872" y="432"/>
                  </a:cubicBezTo>
                  <a:cubicBezTo>
                    <a:pt x="2456" y="424"/>
                    <a:pt x="2980" y="212"/>
                    <a:pt x="3504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907640" y="5334120"/>
            <a:ext cx="35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 GFF3 into CHADO sch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10160" y="5715000"/>
            <a:ext cx="57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references to features with new tables and id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321560" y="2819520"/>
            <a:ext cx="7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5B7F-3B35-42AA-A209-8EA5BE0DEB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822240" y="1407960"/>
            <a:ext cx="78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ws’ method does not exist in Oracle DBI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Browse port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57200" y="1905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990720" y="2666880"/>
            <a:ext cx="7391160" cy="73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my $rows_returned = @{$sth-&gt;fetchall_arrayref()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sth-&gt;execute or Bio::Root::Root-&gt;thro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if ( $rows_returned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== 0) {…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90720" y="1905120"/>
            <a:ext cx="7315200" cy="30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if ($sth-&gt;rows() == 0) {…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3886200"/>
            <a:ext cx="786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acle fetchrow_hashref() is case sensi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914400" y="4343400"/>
            <a:ext cx="731520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sth-&gt;fetchrow_hashref()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5181480"/>
            <a:ext cx="739152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sth-&gt;fetchrow_hashref("NAME_lc"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191120" y="2362320"/>
            <a:ext cx="7617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191120" y="4834080"/>
            <a:ext cx="7617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EEB6-3CFA-4660-ADC0-FE7FE08AF2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Browse porting - Quer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91584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33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select f.feature_id, f.name, fl.fmin,fl.fm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from feature 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join featureloc fl      using (feature_i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where f.feature_id = 221659 and fl.rank=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200400"/>
            <a:ext cx="8229600" cy="91440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33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select f.feature_id, f.name, fl.fmin,fl.fm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from feature 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join featureloc fl      on f.feature_id = fl.feature_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where f.feature_id = 221659 and fl.rank=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9520" y="1219320"/>
            <a:ext cx="83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acle does not like anything in a ‘using’ clause to also be in the ‘where’ cla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114800" y="2819520"/>
            <a:ext cx="7621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4572000"/>
            <a:ext cx="809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string’ becomes ‘subst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SQL containing synonym table must be modif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procedural SQL must be reproduced, in some cases this can be avoi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62D3-A5C0-4A03-87C9-1E79782B3A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un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is_deleted flag to feature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some audit colum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audit table and trigg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Indexes Heuris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hints to some difficult qu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86AA-C4BE-48F2-A761-6241D1D2F3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3:39:44Z</dcterms:created>
  <dc:creator>cgm</dc:creator>
  <dc:description/>
  <dc:language>en-US</dc:language>
  <cp:lastModifiedBy>eric</cp:lastModifiedBy>
  <dcterms:modified xsi:type="dcterms:W3CDTF">2005-05-17T18:57:26Z</dcterms:modified>
  <cp:revision>63</cp:revision>
  <dc:subject/>
  <dc:title>Slide 1</dc:title>
</cp:coreProperties>
</file>